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3692160"/>
            <a:ext cx="83822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604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5160" y="106668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9440" y="106668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369216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5160" y="369216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9440" y="369216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94920" y="188640"/>
            <a:ext cx="83818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604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692160"/>
            <a:ext cx="83822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0880" y="3692160"/>
            <a:ext cx="83822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088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604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5160" y="106668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9440" y="106668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80880" y="369216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5160" y="369216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9440" y="369216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94920" y="188640"/>
            <a:ext cx="83818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604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692160"/>
            <a:ext cx="83822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07920"/>
            <a:ext cx="9140760" cy="53848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08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0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280" y="63817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C94F-F936-45D7-83CC-E0EFBC19C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237360"/>
            <a:ext cx="9144000" cy="90360"/>
            <a:chOff x="0" y="6237360"/>
            <a:chExt cx="9144000" cy="90360"/>
          </a:xfrm>
        </p:grpSpPr>
        <p:sp>
          <p:nvSpPr>
            <p:cNvPr id="5" name=""/>
            <p:cNvSpPr/>
            <p:nvPr/>
          </p:nvSpPr>
          <p:spPr>
            <a:xfrm rot="16200000">
              <a:off x="3766680" y="5519520"/>
              <a:ext cx="86400" cy="1523880"/>
            </a:xfrm>
            <a:prstGeom prst="rect">
              <a:avLst/>
            </a:prstGeom>
            <a:solidFill>
              <a:srgbClr val="5fa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6200000">
              <a:off x="718560" y="5518440"/>
              <a:ext cx="86400" cy="1523880"/>
            </a:xfrm>
            <a:prstGeom prst="rect">
              <a:avLst/>
            </a:prstGeom>
            <a:solidFill>
              <a:srgbClr val="fea6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16200000">
              <a:off x="2242800" y="5519520"/>
              <a:ext cx="86400" cy="1524240"/>
            </a:xfrm>
            <a:prstGeom prst="rect">
              <a:avLst/>
            </a:prstGeom>
            <a:solidFill>
              <a:srgbClr val="f573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6200000">
              <a:off x="5290560" y="5522400"/>
              <a:ext cx="86400" cy="1523880"/>
            </a:xfrm>
            <a:prstGeom prst="rect">
              <a:avLst/>
            </a:prstGeom>
            <a:solidFill>
              <a:srgbClr val="609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6200000">
              <a:off x="6814800" y="5522400"/>
              <a:ext cx="86400" cy="1524240"/>
            </a:xfrm>
            <a:prstGeom prst="rect">
              <a:avLst/>
            </a:prstGeom>
            <a:solidFill>
              <a:srgbClr val="b87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6200000">
              <a:off x="8338680" y="5522400"/>
              <a:ext cx="86400" cy="1523880"/>
            </a:xfrm>
            <a:prstGeom prst="rect">
              <a:avLst/>
            </a:prstGeom>
            <a:solidFill>
              <a:srgbClr val="df6a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343400"/>
            <a:ext cx="914076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" y="0"/>
            <a:ext cx="9140760" cy="4149720"/>
          </a:xfrm>
          <a:prstGeom prst="rect">
            <a:avLst/>
          </a:prstGeom>
          <a:solidFill>
            <a:srgbClr val="6180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7476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4111560"/>
            <a:ext cx="9144000" cy="250920"/>
            <a:chOff x="0" y="4111560"/>
            <a:chExt cx="9144000" cy="250920"/>
          </a:xfrm>
        </p:grpSpPr>
        <p:sp>
          <p:nvSpPr>
            <p:cNvPr id="51" name=""/>
            <p:cNvSpPr/>
            <p:nvPr/>
          </p:nvSpPr>
          <p:spPr>
            <a:xfrm rot="16200000">
              <a:off x="3690000" y="3472560"/>
              <a:ext cx="239760" cy="1523880"/>
            </a:xfrm>
            <a:prstGeom prst="rect">
              <a:avLst/>
            </a:prstGeom>
            <a:solidFill>
              <a:srgbClr val="5fa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641880" y="3469320"/>
              <a:ext cx="239760" cy="1523880"/>
            </a:xfrm>
            <a:prstGeom prst="rect">
              <a:avLst/>
            </a:prstGeom>
            <a:solidFill>
              <a:srgbClr val="fea6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6200000">
              <a:off x="2166120" y="3472560"/>
              <a:ext cx="239760" cy="1524240"/>
            </a:xfrm>
            <a:prstGeom prst="rect">
              <a:avLst/>
            </a:prstGeom>
            <a:solidFill>
              <a:srgbClr val="f573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6200000">
              <a:off x="5213880" y="3480480"/>
              <a:ext cx="239760" cy="1523880"/>
            </a:xfrm>
            <a:prstGeom prst="rect">
              <a:avLst/>
            </a:prstGeom>
            <a:solidFill>
              <a:srgbClr val="609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6738120" y="3480480"/>
              <a:ext cx="239760" cy="1524240"/>
            </a:xfrm>
            <a:prstGeom prst="rect">
              <a:avLst/>
            </a:prstGeom>
            <a:solidFill>
              <a:srgbClr val="b87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8262000" y="3480480"/>
              <a:ext cx="239760" cy="1523880"/>
            </a:xfrm>
            <a:prstGeom prst="rect">
              <a:avLst/>
            </a:prstGeom>
            <a:solidFill>
              <a:srgbClr val="df6a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77777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w.w3.org/topic/HCLS/ACPPTaskForce/GuidelinesIndicationsForCABG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3640" y="2174760"/>
            <a:ext cx="8521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aptable Clinical Pathways and Protoc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95280" y="4653000"/>
            <a:ext cx="8305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LS F2F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sterdam, The Nether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ct. 3-4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08b"/>
                </a:solidFill>
                <a:latin typeface="Arial"/>
              </a:rPr>
              <a:t>Charters</a:t>
            </a: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scriptive mechanism that expresses the tasks involved in protocol and process defini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llection of core vocabulary that express pre-defined logical connections between steps, including conditionality, sequence, process branching and synchro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generic mechanisms that govern the selection of clinical pathways and protocols in any given contex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chanism for specifying clinical indications and contra-indications for inferred pathway steps, sufficiently generic enough portable across different pathway invo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chanism that discerns and documents the possible adverse effects when merging clinical pathways or detecting inter process colli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chanism that records and handles execution variances from clinical 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08b"/>
                </a:solidFill>
                <a:latin typeface="Arial"/>
              </a:rPr>
              <a:t>Use Cases 1 ER Stroke Management</a:t>
            </a: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7520" y="958680"/>
            <a:ext cx="9061560" cy="58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08b"/>
                </a:solidFill>
                <a:latin typeface="Arial"/>
              </a:rPr>
              <a:t>Use Case 2 CABG</a:t>
            </a: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/AHA Guidelines and Indications for Coronary Artery Bypass Graft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77777"/>
                </a:solidFill>
                <a:uFillTx/>
                <a:latin typeface="Arial"/>
                <a:hlinkClick r:id="rId1"/>
              </a:rPr>
              <a:t>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08b"/>
                </a:solidFill>
                <a:latin typeface="Arial"/>
              </a:rPr>
              <a:t>ACPP Main Constructs</a:t>
            </a: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nd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cond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08b"/>
                </a:solidFill>
                <a:latin typeface="Arial"/>
              </a:rPr>
              <a:t>Key Issues Facing ACPP</a:t>
            </a: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l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e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on and Scoped N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position (context) of a knowledge body (evid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15:38:08Z</dcterms:created>
  <dc:creator>Helen Chen</dc:creator>
  <dc:description/>
  <dc:language>en-US</dc:language>
  <cp:lastModifiedBy>agfa</cp:lastModifiedBy>
  <dcterms:modified xsi:type="dcterms:W3CDTF">2006-10-02T21:29:01Z</dcterms:modified>
  <cp:revision>17</cp:revision>
  <dc:subject/>
  <dc:title>Amsterdam F2F </dc:title>
</cp:coreProperties>
</file>